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EE6-E906-409F-BACA-6C0EDEC3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3A8-0CF2-46C0-B31D-86C06FFA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103-AEFB-4BF0-802C-3864C525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8D5-EE79-4455-9944-C92F1555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C5C-66E2-4B74-8565-2D2B5D3F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9A9-BDD7-47BE-9E1C-71A2086D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2BD-6E96-452A-B562-DA1A5A08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F35-397E-4917-9680-C5C0E8C2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D14-8D55-44B4-9408-AC6EF99A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3C0-FECA-4A49-A901-7EFA0EF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133-C602-43F1-8765-CFBFB822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071-3DAF-4B33-A3D5-AE4E0B1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965E-FFEA-4D3A-8B56-7B6122AD1EC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78487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Bookman Old Style"/>
              </a:rPr>
              <a:t>11 Listopada Narodowe Święto Niepodległości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Bookman Old Style"/>
              </a:rPr>
              <a:t>102 roc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godlo"/>
          <p:cNvPicPr/>
          <p:nvPr/>
        </p:nvPicPr>
        <p:blipFill>
          <a:blip r:embed="rId1"/>
          <a:stretch/>
        </p:blipFill>
        <p:spPr>
          <a:xfrm>
            <a:off x="2484360" y="1989000"/>
            <a:ext cx="4021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05160" y="5257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A.MICKIEWIC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ickiewicz1"/>
          <p:cNvPicPr/>
          <p:nvPr/>
        </p:nvPicPr>
        <p:blipFill>
          <a:blip r:embed="rId1"/>
          <a:stretch/>
        </p:blipFill>
        <p:spPr>
          <a:xfrm>
            <a:off x="914400" y="228600"/>
            <a:ext cx="3905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43240" y="5181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.Słowa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r"/>
          <p:cNvPicPr/>
          <p:nvPr/>
        </p:nvPicPr>
        <p:blipFill>
          <a:blip r:embed="rId1"/>
          <a:stretch/>
        </p:blipFill>
        <p:spPr>
          <a:xfrm>
            <a:off x="457200" y="228600"/>
            <a:ext cx="5365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5880" y="48765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.Cho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hopin_19"/>
          <p:cNvPicPr/>
          <p:nvPr/>
        </p:nvPicPr>
        <p:blipFill>
          <a:blip r:embed="rId1"/>
          <a:stretch/>
        </p:blipFill>
        <p:spPr>
          <a:xfrm>
            <a:off x="838080" y="380880"/>
            <a:ext cx="5288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3440" y="479700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Jan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nry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ąbrows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NWKW"/>
          <p:cNvPicPr/>
          <p:nvPr/>
        </p:nvPicPr>
        <p:blipFill>
          <a:blip r:embed="rId1"/>
          <a:stretch/>
        </p:blipFill>
        <p:spPr>
          <a:xfrm>
            <a:off x="684360" y="333360"/>
            <a:ext cx="5018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Powstanie</a:t>
            </a:r>
            <a:br>
              <a:rPr sz="8000"/>
            </a:b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Styczniowe</a:t>
            </a:r>
            <a:br>
              <a:rPr sz="8000"/>
            </a:b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1863- 1865</a:t>
            </a:r>
            <a:r>
              <a:rPr b="1" lang="pl-PL" sz="8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t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Bookman Old Style"/>
              </a:rPr>
              <a:t>Józef Piłsudski (1867-1935)- bohater narodow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rtretmarszalka"/>
          <p:cNvPicPr/>
          <p:nvPr/>
        </p:nvPicPr>
        <p:blipFill>
          <a:blip r:embed="rId1"/>
          <a:stretch/>
        </p:blipFill>
        <p:spPr>
          <a:xfrm>
            <a:off x="2692440" y="1557360"/>
            <a:ext cx="3645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740px-MalczewskiJacek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Jozef_Pilsudski_12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0000"/>
                </a:solidFill>
                <a:latin typeface="Arial"/>
              </a:rPr>
              <a:t>PIERWSZA</a:t>
            </a:r>
            <a:br>
              <a:rPr sz="8800"/>
            </a:br>
            <a:r>
              <a:rPr b="1" lang="pl-PL" sz="8800" spc="-1" strike="noStrike">
                <a:solidFill>
                  <a:srgbClr val="000000"/>
                </a:solidFill>
                <a:latin typeface="Arial"/>
              </a:rPr>
              <a:t>WOJNA</a:t>
            </a:r>
            <a:br>
              <a:rPr sz="8800"/>
            </a:br>
            <a:r>
              <a:rPr b="1" lang="pl-PL" sz="8800" spc="-1" strike="noStrike">
                <a:solidFill>
                  <a:srgbClr val="000000"/>
                </a:solidFill>
                <a:latin typeface="Arial"/>
              </a:rPr>
              <a:t>ŚWIATOW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1"/>
          <p:cNvSpPr/>
          <p:nvPr/>
        </p:nvSpPr>
        <p:spPr>
          <a:xfrm>
            <a:off x="611280" y="54936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lska przez 123 lata była pod zaborami. W ciągu tych dziesięcioleci Polacy niejednokrotnie chwytali broń przeciwko zaborcom. Te zrywy nazywane są powstaniami narodowowyzwoleńczymi. Na ziemiach polskich doszło do następujących insurekcji: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Kościuszkowskie, 1794r.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Listopadowe, 1830- 1831r.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Krakowskie, 1846r.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Poznańskie, 1848r. 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Styczniowe, 1863- 1865r</a:t>
            </a:r>
            <a:r>
              <a:rPr b="0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Do zrywu narodowowyzwoleńczego zaliczamy także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Wiosnę Ludów, w zaborze pruskim i austriacki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1wojna_cz2"/>
          <p:cNvPicPr/>
          <p:nvPr/>
        </p:nvPicPr>
        <p:blipFill>
          <a:blip r:embed="rId1"/>
          <a:stretch/>
        </p:blipFill>
        <p:spPr>
          <a:xfrm>
            <a:off x="457200" y="730080"/>
            <a:ext cx="822960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Symbole narodo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godlo"/>
          <p:cNvPicPr/>
          <p:nvPr/>
        </p:nvPicPr>
        <p:blipFill>
          <a:blip r:embed="rId1"/>
          <a:stretch/>
        </p:blipFill>
        <p:spPr>
          <a:xfrm>
            <a:off x="755640" y="134136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928760" y="508464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Flaga Pol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832320" y="4724280"/>
            <a:ext cx="26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Godło Pol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olska"/>
          <p:cNvPicPr/>
          <p:nvPr/>
        </p:nvPicPr>
        <p:blipFill>
          <a:blip r:embed="rId2"/>
          <a:stretch/>
        </p:blipFill>
        <p:spPr>
          <a:xfrm>
            <a:off x="4643280" y="1700280"/>
            <a:ext cx="3114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Hymn Pol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708360" y="1125360"/>
            <a:ext cx="374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Jeszcze Polska nie zginęła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Kiedy my żyjemy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Co nam obca przemoc wzięła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Szablą odbierzemy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Marsz, marsz Dąbrowski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Z ziemi włoskiej do Polski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Za twoim przewodem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Złączym się z narodem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rzejdziem Wisłę, przejdziem Wartę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Będziem Polakami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Dał nam przykład Bonaparte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Jak zwyciężać mamy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Marsz, marsz..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Jak Czarniecki do Poznania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o szwedzkim zaborze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Dla ojczyzny ratowania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Wrócim się przez morze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Marsz, marsz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MCEN00501_0000[1]"/>
          <p:cNvPicPr/>
          <p:nvPr/>
        </p:nvPicPr>
        <p:blipFill>
          <a:blip r:embed="rId1"/>
          <a:stretch/>
        </p:blipFill>
        <p:spPr>
          <a:xfrm>
            <a:off x="539640" y="1916280"/>
            <a:ext cx="2232000" cy="2195280"/>
          </a:xfrm>
          <a:prstGeom prst="rect">
            <a:avLst/>
          </a:prstGeom>
          <a:ln w="0">
            <a:noFill/>
          </a:ln>
        </p:spPr>
      </p:pic>
      <p:pic>
        <p:nvPicPr>
          <p:cNvPr id="81" name="Hymn Polski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6242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Grób Nieznanego Żołni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omboftheunknownsoldiernc8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283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_8233"/>
          <p:cNvPicPr/>
          <p:nvPr/>
        </p:nvPicPr>
        <p:blipFill>
          <a:blip r:embed="rId2"/>
          <a:stretch/>
        </p:blipFill>
        <p:spPr>
          <a:xfrm>
            <a:off x="4572000" y="1700280"/>
            <a:ext cx="417672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038240" y="4869000"/>
            <a:ext cx="28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Zdjęcie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z 1939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932360" y="48690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Zdjęcie teraźniej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apa1"/>
          <p:cNvPicPr/>
          <p:nvPr/>
        </p:nvPicPr>
        <p:blipFill>
          <a:blip r:embed="rId1"/>
          <a:stretch/>
        </p:blipFill>
        <p:spPr>
          <a:xfrm>
            <a:off x="2340000" y="1197000"/>
            <a:ext cx="4743360" cy="4962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Polska w niewoli zaborc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111111"/>
                </a:solidFill>
                <a:latin typeface="Arial"/>
              </a:rPr>
              <a:t>Powstanie</a:t>
            </a:r>
            <a:br>
              <a:rPr sz="6600"/>
            </a:br>
            <a:r>
              <a:rPr b="1" lang="pl-PL" sz="6600" spc="-1" strike="noStrike">
                <a:solidFill>
                  <a:srgbClr val="111111"/>
                </a:solidFill>
                <a:latin typeface="Arial"/>
              </a:rPr>
              <a:t>Kościuszkowskie</a:t>
            </a:r>
            <a:br>
              <a:rPr sz="8000"/>
            </a:br>
            <a:r>
              <a:rPr b="1" lang="pl-PL" sz="8000" spc="-1" strike="noStrike">
                <a:solidFill>
                  <a:srgbClr val="111111"/>
                </a:solidFill>
                <a:latin typeface="Arial"/>
              </a:rPr>
              <a:t>1794 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powstancy1863"/>
          <p:cNvPicPr/>
          <p:nvPr/>
        </p:nvPicPr>
        <p:blipFill>
          <a:blip r:embed="rId1"/>
          <a:stretch/>
        </p:blipFill>
        <p:spPr>
          <a:xfrm>
            <a:off x="2095560" y="571680"/>
            <a:ext cx="495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li5"/>
          <p:cNvPicPr/>
          <p:nvPr/>
        </p:nvPicPr>
        <p:blipFill>
          <a:blip r:embed="rId1"/>
          <a:stretch/>
        </p:blipFill>
        <p:spPr>
          <a:xfrm>
            <a:off x="684360" y="836640"/>
            <a:ext cx="8018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0000"/>
                </a:solidFill>
                <a:latin typeface="Arial"/>
              </a:rPr>
              <a:t>Powstanie</a:t>
            </a:r>
            <a:br>
              <a:rPr sz="8000"/>
            </a:br>
            <a:r>
              <a:rPr b="1" lang="pl-PL" sz="8000" spc="-1" strike="noStrike">
                <a:solidFill>
                  <a:srgbClr val="000000"/>
                </a:solidFill>
                <a:latin typeface="Arial"/>
              </a:rPr>
              <a:t>Listopadowe</a:t>
            </a:r>
            <a:br>
              <a:rPr sz="8000"/>
            </a:br>
            <a:r>
              <a:rPr b="1" lang="pl-PL" sz="8000" spc="-1" strike="noStrike">
                <a:solidFill>
                  <a:srgbClr val="000000"/>
                </a:solidFill>
                <a:latin typeface="Arial"/>
              </a:rPr>
              <a:t>1830 – 1831 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Antoni sochaczewski pożegnanie z europą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50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Wielu sławnych ludzi, musiało opuścić Polskę. Jednak na obczyźnie dokonywali wielkich rzeczy</a:t>
            </a:r>
            <a:br>
              <a:rPr sz="4800"/>
            </a:b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z myślą o Ojczyźnie, wiedzieli, że naród przetrwa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39:55Z</dcterms:created>
  <dc:creator>AMD</dc:creator>
  <dc:description/>
  <dc:language>en-US</dc:language>
  <cp:lastModifiedBy>Windows User</cp:lastModifiedBy>
  <dcterms:modified xsi:type="dcterms:W3CDTF">2020-11-09T11:51:19Z</dcterms:modified>
  <cp:revision>17</cp:revision>
  <dc:subject/>
  <dc:title>11 Listopada Narodowe Święto Niepodległości</dc:title>
</cp:coreProperties>
</file>